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B47-40FF-4D90-9938-36253D56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2DB-69D2-4554-9FCC-8ADAB68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6B2-A50A-4311-A46F-E7AA4F10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05F-E1BF-4F57-B52E-56A19188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EBEC-931D-4F5E-B296-7B782FAA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E751-BE3F-4AA6-973C-4E32A5D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08F-D5C5-4E67-9B5D-D6F6E732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B4B-870C-4AB2-AF23-C2A6708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C28-2221-4604-A1A0-B17D61CC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3649-A746-4555-8F2E-852D7E3A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8D8C-AE77-4FA4-B321-DF4F122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A76-ADA9-4297-93A2-B8C78C4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A2C-D8D9-4065-AADD-D504027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C6CE-378B-4F1B-B78C-ED9B3B0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A5E7-225C-41A0-9B9F-C3191C1D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28E7-069A-49C3-98C2-0549EB27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B7BD-9334-49C8-A47B-751D22D4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AEE-9817-4D80-95F4-45167D89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18A-8200-4063-9909-49D1F0D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71F-A55D-436A-81DE-C0039A9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E81-6D2B-4F05-8D1D-3CCC18C0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740-98CB-40D6-955D-338DD76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7E-272C-4292-A5D5-A27A138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5BF-5327-46AB-BF8F-6F01032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Click to edit the title text format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54E2-BD54-49D9-987A-770175E6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Click to edit the title text format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66C7-55A6-4623-9AB5-A937CDAD8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3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3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Christian Financial Principles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19920" y="3657600"/>
          <a:ext cx="1600200" cy="114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65760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43434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28800" y="5105520"/>
          <a:ext cx="5486400" cy="99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105520"/>
                    <a:ext cx="5486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58000" y="3352680"/>
          <a:ext cx="1600200" cy="1148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6002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800600" y="3733920"/>
          <a:ext cx="1600200" cy="1147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73392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62520" y="3733920"/>
          <a:ext cx="1600200" cy="1147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73392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971800" y="3733920"/>
          <a:ext cx="1600200" cy="114768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373392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981080" y="3657600"/>
          <a:ext cx="1600200" cy="11476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65760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447920" y="3429000"/>
          <a:ext cx="1600200" cy="11476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342900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Advanced Economics Class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133720"/>
            <a:ext cx="685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Insu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ment 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irement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1371600"/>
            <a:ext cx="7391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571320" tIns="399960" bIns="457200" anchor="t">
            <a:spAutoFit/>
          </a:bodyPr>
          <a:p>
            <a:pPr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52760"/>
                <a:tab algn="l" pos="1038099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52760"/>
                <a:tab algn="l" pos="1038099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304920"/>
            <a:ext cx="5276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avings &amp; Inve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182880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98108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best financial investment is ALWAYS (almost) to pay off your outstanding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ce you are out of debt – What do you do with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has God given it to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provide for someone else’s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ings for “Rainy Day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ings for big future expenses (car, new roof, school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irement plan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Abadi MT Condensed Extra Bold"/>
              </a:rPr>
              <a:t>What Does The Bible Say?</a:t>
            </a:r>
            <a:endParaRPr b="1" lang="en-US" sz="40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rbs 11:4 “Riches profit not in the day of wrath: but righteousness delivereth from death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rbs 11:16  “…strong men retain rich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rbs 11:28 “He that trusteth in his riches shall fall: but the righteous shall flourish as a branch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rbs 13:22 “A good man leaveth an inheritance to his children’s children: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rbs 16:8 “Better is little with righteousness than great revenues without right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rbs 21:20 “There is treasure to be desired and oil in the dwelling of the wise; but a foolish man spendeth it up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533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ahoma"/>
              </a:rPr>
              <a:t>What Does The Bible S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229600" cy="81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tthew 25 – Both Spiritual &amp; Practical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n virgins (v. 1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rist teaches about spiritual prepar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material example (oil for lam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so teaches about being prepared, looking ahead &amp; planning for those material things we will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alents (v. 14-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rist teaches about the wise use of God’s g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an with 5 talents and the man with 2 talents traded with the money to make it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done, thou good and faithful serva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Personal Application: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Do Not Invest IF…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not giving tithes &amp; offe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 is telling you to do something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high consumer d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unpaid debts / b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living beyond your 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not willing to take the corresponding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vestment you are considering would not be acceptable to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If God blesses you with an excess, invest IF…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the Investment and it makes the best financial sense: Example--Your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Current Income--Interest or Divid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Providing for Future Needs: Down Payment for a Home, Educating Children,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believe God would be pleased with both your motives and the actual inves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55760" y="194616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1752480"/>
            <a:ext cx="754380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vings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vings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fe Insurance Policies / Annu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rtificates of Deposit (CD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cks / Bonds / Mutual F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1(k) &amp; 403(b)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 Retirement Accounts (IRA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9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Abadi MT Condensed Extra Bold"/>
                <a:ea typeface="Times New Roman"/>
              </a:rPr>
              <a:t>Lets’ Talk About Savings – </a:t>
            </a:r>
            <a:br>
              <a:rPr sz="2800"/>
            </a:br>
            <a:r>
              <a:rPr b="1" lang="en-US" sz="2800" spc="-1" strike="noStrike">
                <a:solidFill>
                  <a:srgbClr val="221304"/>
                </a:solidFill>
                <a:latin typeface="Abadi MT Condensed Extra Bold"/>
                <a:ea typeface="Times New Roman"/>
              </a:rPr>
              <a:t>How To Accumulate $1,000,000 by Age 65</a:t>
            </a:r>
            <a:br>
              <a:rPr sz="2800"/>
            </a:br>
            <a:endParaRPr b="1" lang="en-US" sz="28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752480"/>
          <a:ext cx="662616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752480"/>
                    <a:ext cx="6626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791320" y="1371600"/>
            <a:ext cx="3047760" cy="990720"/>
          </a:xfrm>
          <a:prstGeom prst="wedgeRoundRectCallout">
            <a:avLst>
              <a:gd name="adj1" fmla="val -59217"/>
              <a:gd name="adj2" fmla="val 28046"/>
              <a:gd name="adj3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this to 85, if you’re already 65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876920"/>
            <a:ext cx="2590560" cy="1371600"/>
          </a:xfrm>
          <a:prstGeom prst="wedgeEllipseCallout">
            <a:avLst>
              <a:gd name="adj1" fmla="val 72611"/>
              <a:gd name="adj2" fmla="val -62731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65 you’ll still have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4800600"/>
            <a:ext cx="2590920" cy="1371600"/>
          </a:xfrm>
          <a:prstGeom prst="wedgeEllipseCallout">
            <a:avLst>
              <a:gd name="adj1" fmla="val -100185"/>
              <a:gd name="adj2" fmla="val -4398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75 you’ll still have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Abadi MT Condensed Extra Bold"/>
              </a:rPr>
              <a:t>How $100 a Month Will Grow</a:t>
            </a:r>
            <a:endParaRPr b="1" lang="en-US" sz="24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9051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676520"/>
          <a:ext cx="8915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915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4479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,  $58,902 - $24,000 is interest in the amount of $34,902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048120"/>
            <a:ext cx="1219320" cy="2209680"/>
          </a:xfrm>
          <a:prstGeom prst="wedgeRoundRectCallout">
            <a:avLst>
              <a:gd name="adj1" fmla="val -181902"/>
              <a:gd name="adj2" fmla="val 3449"/>
              <a:gd name="adj3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. A month for 20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276720"/>
            <a:ext cx="1218960" cy="2209680"/>
          </a:xfrm>
          <a:prstGeom prst="wedgeRoundRectCallout">
            <a:avLst>
              <a:gd name="adj1" fmla="val 107162"/>
              <a:gd name="adj2" fmla="val -77587"/>
              <a:gd name="adj3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. A month for 5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981080"/>
            <a:ext cx="1218960" cy="2210040"/>
          </a:xfrm>
          <a:prstGeom prst="wedgeRoundRectCallout">
            <a:avLst>
              <a:gd name="adj1" fmla="val -135027"/>
              <a:gd name="adj2" fmla="val 43101"/>
              <a:gd name="adj3" fmla="val 16667"/>
            </a:avLst>
          </a:prstGeom>
          <a:solidFill>
            <a:srgbClr val="e1de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. A month for 20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22:21:15Z</dcterms:created>
  <dc:creator>Mike O'Mara</dc:creator>
  <dc:description/>
  <dc:language>en-US</dc:language>
  <cp:lastModifiedBy>Mike Omara</cp:lastModifiedBy>
  <dcterms:modified xsi:type="dcterms:W3CDTF">2006-12-09T13:18:31Z</dcterms:modified>
  <cp:revision>68</cp:revision>
  <dc:subject/>
  <dc:title>Savings &amp; Investments</dc:title>
</cp:coreProperties>
</file>